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118-A405-4101-A7DE-5E5526D0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616-523E-4D5A-871A-24B93362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2F1-DE34-4D10-BEF6-71AC9DDB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178-C288-4445-A4CA-768A542E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20A1-945E-4253-ADAF-2A389EBB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DC3A-2459-4EEB-984A-E402D83A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C4F8-3D83-4AC5-9774-804DC672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C548-3F5C-41AE-97FB-BB107B46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90AA-328C-42DF-AB6A-AB529054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3405-92CC-4D04-81FF-BA00D2A0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5654-4690-4131-B903-B5998113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ADF-7955-4C71-B44C-6F12D933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D119-3884-4618-8CBA-F09EBD7A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BB39-C300-4507-AE12-BB5C780C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E522-6F7A-47A5-A47E-33AC616B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48AC-A90D-4FDD-993D-6814385F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86E2-3A30-40EA-AA6C-F6E29F56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4DD3-DB0A-4EC8-A324-9E3D8455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68166-80D7-4BD4-A671-EEDE47D1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41A01-26B7-4DE5-8959-BFF0B4C6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6C9AF-4B86-43C8-96CB-D88A0077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63C2B-C370-4BCE-939D-1B6667C4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555-C46B-40EA-B68E-BCFD987E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086DE-F906-428F-A4C0-DA6EA223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126B5-B37A-4BD9-97DB-DC92A594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1B63A-B3B2-4D6C-B973-503922A5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5860-558F-4ADA-A985-AD2A1050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FEC3-7398-47EE-A2EC-3C5577E7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498AF-E1AD-4771-81EE-06014206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B9EA-7B5D-4E44-A2C9-D69A9ACD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5ED1F-1135-4F9E-804B-D4F7D057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2EBBA-C125-40A4-A9B0-A0D9CBD4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5A483-D228-4F2F-816B-DA49B81A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DE3-B59C-4579-8B29-DDB7A54E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1A85F-E4BA-459E-A069-7BA31C76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62E69-BC24-468C-ADBE-0565AFD8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88480-4E3E-4A48-AB8A-ED4B27C5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B65ED-8CFB-434A-8229-8418256A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ED9E7-371A-4597-AD00-E5376EDD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5F59A-4790-447C-88FB-B160857E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ED1AA-E18A-4CA1-A9E7-461EEBB8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8541D-924C-4D17-805A-B4EAD916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B230A-D90A-4B95-A1C3-198AAE5A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657-DF92-48CB-8A2E-BC466FF1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BAE-7985-4F50-AE0D-4E0B947B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752-380E-420B-86B2-2CB495C5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FE5-8F20-463F-B490-B99360D6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3ED5-1325-4D39-B7EE-0C4191BA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DDEA-CC8A-4487-9F70-C90E57202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5555-BC48-4D18-B4E4-099D9DBCC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0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d2d89"/>
                </a:gs>
                <a:gs pos="100000">
                  <a:srgbClr val="0000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1DB7-5255-44FD-9B77-E7B7CE0614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00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d2d89"/>
                </a:gs>
                <a:gs pos="100000">
                  <a:srgbClr val="0000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13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1FCA-625C-49CA-B5E8-B339100FD08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The Plant Cell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Allison Tiet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-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2639" t="13748" r="8986" b="13748"/>
          <a:stretch/>
        </p:blipFill>
        <p:spPr>
          <a:xfrm>
            <a:off x="0" y="1447920"/>
            <a:ext cx="91440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itochondri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R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rcRect l="0" t="17868" r="45965" b="16627"/>
          <a:stretch/>
        </p:blipFill>
        <p:spPr>
          <a:xfrm>
            <a:off x="990720" y="1295280"/>
            <a:ext cx="70866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05:07Z</dcterms:created>
  <dc:creator>atietz</dc:creator>
  <dc:description/>
  <dc:language>en-US</dc:language>
  <cp:lastModifiedBy>atietz</cp:lastModifiedBy>
  <dcterms:modified xsi:type="dcterms:W3CDTF">2010-12-17T19:32:08Z</dcterms:modified>
  <cp:revision>2</cp:revision>
  <dc:subject/>
  <dc:title>The Plant Cell</dc:title>
</cp:coreProperties>
</file>